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E75-4D90-4F3D-B589-50BBCB41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655-550C-4B7F-AE6F-EF458FA3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530-BADC-40E4-BCEA-14DAEB1F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432-2FA3-44FB-91D8-65AF572F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C121-87CB-414B-8BD4-C56E4A3E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9C0-EDBB-4CAC-A7B4-3A5E3DFB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F9F-DA03-4C72-8567-EBC612B1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56F-988F-472D-8D59-4E191AB0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EBE-5AD4-4294-BE08-B6073586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D63-FE94-4F7A-8374-C3B37AE9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8D2-CA59-4C91-8774-779E529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474-B930-4053-BB7F-B86E9D75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17AE-88FC-43ED-ABE8-242F4F983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fc06.deviantart.net/fs71/f/2012/124/1/8/rainbow_after_the_rain_by_hannahgrace0802-d4yhdw6.png"/>
          <p:cNvPicPr/>
          <p:nvPr/>
        </p:nvPicPr>
        <p:blipFill>
          <a:blip r:embed="rId1"/>
          <a:stretch/>
        </p:blipFill>
        <p:spPr>
          <a:xfrm>
            <a:off x="228600" y="228600"/>
            <a:ext cx="373392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28600" y="51055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were excited to see that once the rains abated, a rainbow stretched across the 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496040" y="99072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267080" y="17524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come less in intensity; to subside, slacken, wane, or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virginmedia.com/images/tom-jerry-trivia-friends-431x300.jpg"/>
          <p:cNvPicPr/>
          <p:nvPr/>
        </p:nvPicPr>
        <p:blipFill>
          <a:blip r:embed="rId1"/>
          <a:stretch/>
        </p:blipFill>
        <p:spPr>
          <a:xfrm>
            <a:off x="228600" y="457200"/>
            <a:ext cx="350352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5383080" y="121932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038480" y="2133720"/>
            <a:ext cx="464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un--teasing; good-natured j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80880" y="4952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didn’t know better, you’d think Tom and Jerry were enemies rather than good friends who like to banter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www.empowernetwork.com/empowerirek/files/2013/01/helping-others.jpg"/>
          <p:cNvPicPr/>
          <p:nvPr/>
        </p:nvPicPr>
        <p:blipFill>
          <a:blip r:embed="rId1"/>
          <a:stretch/>
        </p:blipFill>
        <p:spPr>
          <a:xfrm>
            <a:off x="0" y="152280"/>
            <a:ext cx="3048120" cy="355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3657600" cy="2971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28600" y="6324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ich wrist do you want me to sla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962520" y="7621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809160" y="137160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ective-merciful; len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4114800" y="4343400"/>
            <a:ext cx="426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victim’s family was shocked when the judge handed down such a clement sentence to the man who had destroyed their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657600" y="24382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e will one day be rewarded for her clement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4285800" y="25909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j.—quiet and mod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344920" y="1600200"/>
            <a:ext cx="16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m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www.coolgraphic.org/wp-content/uploads/2011/10/19.gif"/>
          <p:cNvPicPr/>
          <p:nvPr/>
        </p:nvPicPr>
        <p:blipFill>
          <a:blip r:embed="rId1"/>
          <a:stretch/>
        </p:blipFill>
        <p:spPr>
          <a:xfrm>
            <a:off x="533520" y="1371600"/>
            <a:ext cx="3504960" cy="3365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3352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ew student was a demure little girl who was so nervous she was hardly able to tell the teacher her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us.123rf.com/400wm/400/400/tokhiti/tokhiti0802/tokhiti080200016/2490835-two-enamored-black-cats-and-pink-heart-on-a-white-background-valentines-illustration.jpg"/>
          <p:cNvPicPr/>
          <p:nvPr/>
        </p:nvPicPr>
        <p:blipFill>
          <a:blip r:embed="rId1"/>
          <a:stretch/>
        </p:blipFill>
        <p:spPr>
          <a:xfrm>
            <a:off x="228600" y="1143000"/>
            <a:ext cx="3168720" cy="4267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4608000" y="1600200"/>
            <a:ext cx="208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amo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3886200" y="27432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b—to be in lov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743200" y="464832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the two felines met, they were enamored with each other and have since lived happily ever 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4T14:37:41Z</dcterms:created>
  <dc:creator>miller_d</dc:creator>
  <dc:description/>
  <dc:language>en-US</dc:language>
  <cp:lastModifiedBy>Diana Miller</cp:lastModifiedBy>
  <dcterms:modified xsi:type="dcterms:W3CDTF">2013-08-28T01:36:56Z</dcterms:modified>
  <cp:revision>326</cp:revision>
  <dc:subject/>
  <dc:title>Slide 1</dc:title>
</cp:coreProperties>
</file>