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4A5-AE72-48FF-B0F0-A11FE045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2F3-7537-4397-9A82-5DB567A2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F3A-6D25-44D2-8B64-6A22EFC9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EBE-08F9-4101-B90A-EBFA3C00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B2C-487E-4270-8BE7-E1C46E98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23B-6F09-4A0D-8EC3-98022F3F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DD2-3F97-44D1-9671-67504675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FF0-25C6-483D-9434-D6DF1286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610-00CA-455E-B20B-758EA8A3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E73-A814-4BA8-9FD9-72C43CBD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197-397D-4B49-9172-92DF20AB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894-9C26-4457-A5BE-278639CB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EDA1-7E92-4801-95B6-48C9E4D6F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c06.deviantart.net/fs71/f/2012/124/1/8/rainbow_after_the_rain_by_hannahgrace0802-d4yhdw6.png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28600" y="51055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ere excited to see that once the rains abated, a rainbow stretched across th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496040" y="9907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267080" y="175248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come less in intensity; to subside, slacken, wane, or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virginmedia.com/images/tom-jerry-trivia-friends-431x300.jpg"/>
          <p:cNvPicPr/>
          <p:nvPr/>
        </p:nvPicPr>
        <p:blipFill>
          <a:blip r:embed="rId1"/>
          <a:stretch/>
        </p:blipFill>
        <p:spPr>
          <a:xfrm>
            <a:off x="228600" y="457200"/>
            <a:ext cx="350352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83080" y="121932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038480" y="213372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un--teasing; good-natured j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80880" y="4952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 didn’t know better, you’d think Tom and Jerry were enemies rather than good friends who like to banter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empowernetwork.com/empowerirek/files/2013/01/helping-others.jpg"/>
          <p:cNvPicPr/>
          <p:nvPr/>
        </p:nvPicPr>
        <p:blipFill>
          <a:blip r:embed="rId1"/>
          <a:stretch/>
        </p:blipFill>
        <p:spPr>
          <a:xfrm>
            <a:off x="0" y="152280"/>
            <a:ext cx="3048120" cy="355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28600" y="63244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ich wrist do you want me to sl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962520" y="7621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09160" y="137160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ective-merciful; l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114800" y="434340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victim’s family was shocked when the judge handed down such a clement sentence to the man who had destroyed their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657600" y="24382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e will one day be rewarded for her clement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285800" y="25909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.—quiet and mo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44920" y="160020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www.coolgraphic.org/wp-content/uploads/2011/10/19.gif"/>
          <p:cNvPicPr/>
          <p:nvPr/>
        </p:nvPicPr>
        <p:blipFill>
          <a:blip r:embed="rId1"/>
          <a:stretch/>
        </p:blipFill>
        <p:spPr>
          <a:xfrm>
            <a:off x="533520" y="1371600"/>
            <a:ext cx="3504960" cy="3365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3520" y="5181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ew student was a demure little girl who was so nervous she was hardly able to tell the teacher he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us.123rf.com/400wm/400/400/tokhiti/tokhiti0802/tokhiti080200016/2490835-two-enamored-black-cats-and-pink-heart-on-a-white-background-valentines-illustration.jpg"/>
          <p:cNvPicPr/>
          <p:nvPr/>
        </p:nvPicPr>
        <p:blipFill>
          <a:blip r:embed="rId1"/>
          <a:stretch/>
        </p:blipFill>
        <p:spPr>
          <a:xfrm>
            <a:off x="228600" y="1143000"/>
            <a:ext cx="316872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608000" y="160020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amo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886200" y="27432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 in lov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743200" y="464832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the two felines met, they were enamored with each other and have since lived happily ever 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4:37:41Z</dcterms:created>
  <dc:creator>miller_d</dc:creator>
  <dc:description/>
  <dc:language>en-US</dc:language>
  <cp:lastModifiedBy>Diana Miller</cp:lastModifiedBy>
  <dcterms:modified xsi:type="dcterms:W3CDTF">2013-08-28T01:36:56Z</dcterms:modified>
  <cp:revision>326</cp:revision>
  <dc:subject/>
  <dc:title>Slide 1</dc:title>
</cp:coreProperties>
</file>