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6D0-3526-4B91-8E14-71212AB7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0EB-28D3-4F2A-9526-83AB39EB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FB1-32F3-44BA-8D8A-49E956F5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C53-68EF-4F83-A9A7-9282C2B2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E03-E555-47D5-98A1-7C3386C3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E73-4A12-449F-93E1-9C3184EE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DC0-8BFB-4776-911E-6DEBF6C4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2EF-760B-4EFA-8A62-3D6E79D6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439-7036-43E2-A592-DE2A12E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A48-E712-4143-88F7-6A047A7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058-D67D-482B-B34B-612E83E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FA6-C69C-4982-8A5D-CBBFFE3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A3C-9188-4405-9A2F-E52AADBDF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c06.deviantart.net/fs71/f/2012/124/1/8/rainbow_after_the_rain_by_hannahgrace0802-d4yhdw6.png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28600" y="5105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ere excited to see that once the rains abated, a rainbow stretched across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496040" y="9907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67080" y="17524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come less in intensity; to subside, slacken, wane, 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virginmedia.com/images/tom-jerry-trivia-friends-431x300.jpg"/>
          <p:cNvPicPr/>
          <p:nvPr/>
        </p:nvPicPr>
        <p:blipFill>
          <a:blip r:embed="rId1"/>
          <a:stretch/>
        </p:blipFill>
        <p:spPr>
          <a:xfrm>
            <a:off x="228600" y="45720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83080" y="121932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038480" y="21337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--teasing; good-natured j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didn’t know better, you’d think Tom and Jerry were enemies rather than good friends who like to banter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empowernetwork.com/empowerirek/files/2013/01/helping-others.jpg"/>
          <p:cNvPicPr/>
          <p:nvPr/>
        </p:nvPicPr>
        <p:blipFill>
          <a:blip r:embed="rId1"/>
          <a:stretch/>
        </p:blipFill>
        <p:spPr>
          <a:xfrm>
            <a:off x="0" y="152280"/>
            <a:ext cx="30481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ch wrist do you want me to s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962520" y="762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09160" y="137160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ctive-merciful; l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11480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victim’s family was shocked when the judge handed down such a clement sentence to the man who had destroyed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657600" y="24382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 will one day be rewarded for her clement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285800" y="2590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.—quiet and 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44920" y="160020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coolgraphic.org/wp-content/uploads/2011/10/19.gif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336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ew student was a demure little girl who was so nervous she was hardly able to tell the teacher 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us.123rf.com/400wm/400/400/tokhiti/tokhiti0802/tokhiti080200016/2490835-two-enamored-black-cats-and-pink-heart-on-a-white-background-valentines-illustration.jpg"/>
          <p:cNvPicPr/>
          <p:nvPr/>
        </p:nvPicPr>
        <p:blipFill>
          <a:blip r:embed="rId1"/>
          <a:stretch/>
        </p:blipFill>
        <p:spPr>
          <a:xfrm>
            <a:off x="228600" y="1143000"/>
            <a:ext cx="31687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08000" y="16002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am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86200" y="2743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 in lov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43200" y="464832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the two felines met, they were enamored with each other and have since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4:37:41Z</dcterms:created>
  <dc:creator>miller_d</dc:creator>
  <dc:description/>
  <dc:language>en-US</dc:language>
  <cp:lastModifiedBy>Diana Miller</cp:lastModifiedBy>
  <dcterms:modified xsi:type="dcterms:W3CDTF">2013-08-28T01:36:56Z</dcterms:modified>
  <cp:revision>326</cp:revision>
  <dc:subject/>
  <dc:title>Slide 1</dc:title>
</cp:coreProperties>
</file>