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407-14D6-49E3-B311-C66E87AA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FD6C-5611-41EB-B7D0-82915575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421-DC61-47CE-A9C2-202D2DAE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44F-CC70-40F1-800F-8FF1C3F5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162-EFDC-4CA3-8DFB-2B37FC6C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E607-027D-4645-AAFD-1EC2F710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75FC-47C4-428F-9EE2-7E944570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E09-7C68-40BF-9933-110149D6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CE61-303B-49F5-976A-73E283F3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FB43-A248-4879-8064-21E9AE41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C533-419C-4ADF-9AFA-B7D54A7A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839-58BF-4D5E-9732-380D6B13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9514-E396-402A-A37D-CFDF918DF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fc06.deviantart.net/fs71/f/2012/124/1/8/rainbow_after_the_rain_by_hannahgrace0802-d4yhdw6.png"/>
          <p:cNvPicPr/>
          <p:nvPr/>
        </p:nvPicPr>
        <p:blipFill>
          <a:blip r:embed="rId1"/>
          <a:stretch/>
        </p:blipFill>
        <p:spPr>
          <a:xfrm>
            <a:off x="228600" y="228600"/>
            <a:ext cx="3733920" cy="4495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28600" y="51055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were excited to see that once the rains abated, a rainbow stretched across the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496040" y="99072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267080" y="175248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b—to become less in intensity; to subside, slacken, wane, or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virginmedia.com/images/tom-jerry-trivia-friends-431x300.jpg"/>
          <p:cNvPicPr/>
          <p:nvPr/>
        </p:nvPicPr>
        <p:blipFill>
          <a:blip r:embed="rId1"/>
          <a:stretch/>
        </p:blipFill>
        <p:spPr>
          <a:xfrm>
            <a:off x="228600" y="457200"/>
            <a:ext cx="350352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5383080" y="1219320"/>
            <a:ext cx="13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4038480" y="213372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un--teasing; good-natured j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380880" y="4952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you didn’t know better, you’d think Tom and Jerry were enemies rather than good friends who like to banter with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www.empowernetwork.com/empowerirek/files/2013/01/helping-others.jpg"/>
          <p:cNvPicPr/>
          <p:nvPr/>
        </p:nvPicPr>
        <p:blipFill>
          <a:blip r:embed="rId1"/>
          <a:stretch/>
        </p:blipFill>
        <p:spPr>
          <a:xfrm>
            <a:off x="0" y="152280"/>
            <a:ext cx="3048120" cy="355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365760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228600" y="63244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ich wrist do you want me to sla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962520" y="7621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809160" y="1371600"/>
            <a:ext cx="48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jective-merciful; len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4114800" y="4343400"/>
            <a:ext cx="426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victim’s family was shocked when the judge handed down such a clement sentence to the man who had destroyed their l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3657600" y="243828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he will one day be rewarded for her clement he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4285800" y="2590920"/>
            <a:ext cx="43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j.—quiet and mod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44920" y="1600200"/>
            <a:ext cx="16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m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www.coolgraphic.org/wp-content/uploads/2011/10/19.gif"/>
          <p:cNvPicPr/>
          <p:nvPr/>
        </p:nvPicPr>
        <p:blipFill>
          <a:blip r:embed="rId1"/>
          <a:stretch/>
        </p:blipFill>
        <p:spPr>
          <a:xfrm>
            <a:off x="533520" y="1371600"/>
            <a:ext cx="3504960" cy="3365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33520" y="51814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new student was a demure little girl who was so nervous she was hardly able to tell the teacher her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us.123rf.com/400wm/400/400/tokhiti/tokhiti0802/tokhiti080200016/2490835-two-enamored-black-cats-and-pink-heart-on-a-white-background-valentines-illustration.jpg"/>
          <p:cNvPicPr/>
          <p:nvPr/>
        </p:nvPicPr>
        <p:blipFill>
          <a:blip r:embed="rId1"/>
          <a:stretch/>
        </p:blipFill>
        <p:spPr>
          <a:xfrm>
            <a:off x="228600" y="1143000"/>
            <a:ext cx="3168720" cy="4267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4608000" y="1600200"/>
            <a:ext cx="20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amo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3886200" y="27432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b—to be in love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2743200" y="464832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the two felines met, they were enamored with each other and have since lived happily ever af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4T14:37:41Z</dcterms:created>
  <dc:creator>miller_d</dc:creator>
  <dc:description/>
  <dc:language>en-US</dc:language>
  <cp:lastModifiedBy>Diana Miller</cp:lastModifiedBy>
  <dcterms:modified xsi:type="dcterms:W3CDTF">2013-08-28T01:36:56Z</dcterms:modified>
  <cp:revision>326</cp:revision>
  <dc:subject/>
  <dc:title>Slide 1</dc:title>
</cp:coreProperties>
</file>