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76A-5D74-4A01-8654-7150DFC1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DAF-C975-4357-898E-B29C586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B4C-91A0-40E2-9C1A-E03D2E51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16C-78B3-4ACE-A347-8C76CA85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F05-338E-44E3-907A-B5050267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225-265D-4E71-9544-73A11453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5CEB-E5FA-4BB0-A885-90D2EBA7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BC7-1FA1-44CF-B7EE-18CBBABF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D8E-7273-4412-A6CA-AE0B51D5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1FF-3A4B-4B1D-999D-53B8191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B93-6EF5-4486-8B16-70D9DC46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408-E608-43C7-A6E7-15B6A095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2E74-801B-4848-8497-C22C2E82D5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07320" y="762120"/>
            <a:ext cx="59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ree Types of Verbal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Geru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nfinitiv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838080" y="1295280"/>
            <a:ext cx="754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Gerund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—a basic verb with 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ending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leep  =   sleep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ait    =   wai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ste  =   tas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457200" y="76212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Participle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—a basic ver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a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ing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ending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UT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changing the function of the word from a verb to an adjective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lping hand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king hear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immering temp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66680" y="1295280"/>
            <a:ext cx="7010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initive is a combination of the wor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a bare form of a verb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d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chan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o hea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6:03:31Z</dcterms:created>
  <dc:creator>Diana Miller</dc:creator>
  <dc:description/>
  <dc:language>en-US</dc:language>
  <cp:lastModifiedBy>Diana Miller</cp:lastModifiedBy>
  <dcterms:modified xsi:type="dcterms:W3CDTF">2013-09-21T21:29:26Z</dcterms:modified>
  <cp:revision>1</cp:revision>
  <dc:subject/>
  <dc:title>Slide 1</dc:title>
</cp:coreProperties>
</file>