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FD7-391B-4114-B5C9-283E5E08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2CF-B99D-4240-BDC6-28CD62A3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60A-19B4-4CF7-B1A3-F3E34282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B1D-3CEC-4F94-A6B3-4204E395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670-9612-4968-BF05-8A30ACAC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76B-050A-4DC4-9F71-1362E076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453-A949-4386-A747-95EF8DBF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C0E-ED02-4EF7-9F04-26F03BC2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55F-692C-492A-BEE8-2FC5FD96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550-D4BD-4218-B903-4E4F0142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0B6-FC1A-4FE6-AD33-AC1F65A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954-323B-4A6D-A5BC-9D9F56B6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12F4-D0DD-4B8A-88E2-9EFEB1B0B5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07320" y="762120"/>
            <a:ext cx="590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ree Types of Verba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Geru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finitiv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838080" y="1295280"/>
            <a:ext cx="754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Gerun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—a basic verb with a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ending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leep  =   sleep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ait    =   wai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aste  =   tas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57200" y="76212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—a basic ver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ith a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ending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UT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hanging the function of the word from a verb to an adjective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lping ha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king hea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mering temp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66680" y="1295280"/>
            <a:ext cx="701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initive is a combination of the wor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a bare form of a verb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d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chan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he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03:31Z</dcterms:created>
  <dc:creator>Diana Miller</dc:creator>
  <dc:description/>
  <dc:language>en-US</dc:language>
  <cp:lastModifiedBy>Diana Miller</cp:lastModifiedBy>
  <dcterms:modified xsi:type="dcterms:W3CDTF">2013-09-21T21:29:26Z</dcterms:modified>
  <cp:revision>1</cp:revision>
  <dc:subject/>
  <dc:title>Slide 1</dc:title>
</cp:coreProperties>
</file>