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4D1-AE48-4321-A48E-C5D16E03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0F4-CDD0-4D09-8D8B-F5C4FE17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87A-973C-4EA6-89C6-5B249195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651-09A6-44BA-A8E9-AA310063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3D0-2FA5-4A86-AD39-81258218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2F0-084F-46F4-8A66-D6DE0B5B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62A-ED94-4810-B776-D7928EAB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25E-F8EE-42B6-9ECB-757E9E67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0C2-70BD-48E7-B90C-30D9D6F1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337-880D-4ED7-9F89-17737275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FBF-42E2-480E-AB97-73C61E9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14C-2441-4908-A306-493938C3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7CE3-FC1C-4489-8946-6B227A55C9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07320" y="762120"/>
            <a:ext cx="5900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ree Types of Verba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Geru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articip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finitiv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838080" y="1295280"/>
            <a:ext cx="7543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Gerun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—a basic verb with a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ending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leep  =   sleep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ait    =   wai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aste  =   tas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57200" y="76212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ticip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—a basic ver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ith a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ing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ending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UT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changing the function of the word from a verb to an adjective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elping ha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reaking hear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mmering temp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066680" y="1295280"/>
            <a:ext cx="7010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finitive is a combination of the wor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a bare form of a verb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d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chan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he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03:31Z</dcterms:created>
  <dc:creator>Diana Miller</dc:creator>
  <dc:description/>
  <dc:language>en-US</dc:language>
  <cp:lastModifiedBy>Diana Miller</cp:lastModifiedBy>
  <dcterms:modified xsi:type="dcterms:W3CDTF">2013-09-21T21:29:26Z</dcterms:modified>
  <cp:revision>1</cp:revision>
  <dc:subject/>
  <dc:title>Slide 1</dc:title>
</cp:coreProperties>
</file>