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2BA9-8A10-4AC5-9A4F-F5506451E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30A5-6C03-402E-B89E-8849CC9A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145F-E5EA-450A-98A2-F8C6B6658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ABC5-629A-4639-86A1-06C84E675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B870-17EA-420A-A2D8-9BFA3E89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4C3B-1B82-46C8-8915-6E675F7D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071C-916E-44E0-A164-E50F0A14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5F32-6622-4F1D-B8B4-AE8C6448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A51B-8FE4-4122-9F64-CF869F18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4CCA-1C06-44CD-A5F9-51A70A98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6B08-D032-4048-99C8-2F6FF200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EF4E-1531-4A94-9CEA-C0B202B5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C23C-7A78-42E6-81C6-6429CA7B2C8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507320" y="762120"/>
            <a:ext cx="59004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hree Types of Verbal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Gerund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Participl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Infinitiv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838080" y="1295280"/>
            <a:ext cx="7543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Gerund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—a basic verb with an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ing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 ending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leep  =   sleep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ait    =   wait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aste  =   tast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457200" y="762120"/>
            <a:ext cx="822960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articipl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—a basic verb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ith an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ing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ending 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BUT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changing the function of the word from a verb to an adjective.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helping hand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reaking hear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immering tempe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1066680" y="1295280"/>
            <a:ext cx="7010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finitive is a combination of the wor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t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and a bare form of a verb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o danc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o chang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o he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1T16:03:31Z</dcterms:created>
  <dc:creator>Diana Miller</dc:creator>
  <dc:description/>
  <dc:language>en-US</dc:language>
  <cp:lastModifiedBy>Diana Miller</cp:lastModifiedBy>
  <dcterms:modified xsi:type="dcterms:W3CDTF">2013-09-21T21:29:26Z</dcterms:modified>
  <cp:revision>1</cp:revision>
  <dc:subject/>
  <dc:title>Slide 1</dc:title>
</cp:coreProperties>
</file>