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D362-977F-418D-A19F-5D793953E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1AA3-BA53-4218-B67A-2E5F6C4F9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5F76-E552-4A62-B791-77AF74763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A804-0F5D-428E-9F08-1641C9900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6BFD-2290-448D-988E-E8A408FBD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09BA-2552-4DBE-8371-9363EF6D5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DE0D-F8E3-4F5A-9E98-16C0E055C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6429-35A3-470A-AAA9-A5B05657C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9D43-A95B-4FFC-A0DC-AC46D1623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284C-23E5-474F-AF6C-1CC268E0F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14B1-7AE4-421F-B6AA-29475DAF1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B9DF-6F3B-46DB-895F-1A4E21086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CC8A4-46A8-47FA-982E-979C61A1522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1507320" y="762120"/>
            <a:ext cx="59004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Three Types of Verbal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Gerund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Participle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Infinitive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Box 1"/>
          <p:cNvSpPr/>
          <p:nvPr/>
        </p:nvSpPr>
        <p:spPr>
          <a:xfrm>
            <a:off x="838080" y="1295280"/>
            <a:ext cx="754380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mic Sans MS"/>
              </a:rPr>
              <a:t>Gerund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—a basic verb with an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Comic Sans MS"/>
              </a:rPr>
              <a:t>ing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  ending.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sleep  =   sleeping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wait    =   waiting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taste  =   tasting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457200" y="762120"/>
            <a:ext cx="8229600" cy="57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Participles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—a basic verb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with an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Comic Sans MS"/>
              </a:rPr>
              <a:t>ing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ending  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BUT 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changing the function of the word from a verb to an adjective.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helping hand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breaking heart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simmering temper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1066680" y="1295280"/>
            <a:ext cx="70106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Infinitive is a combination of the word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Comic Sans MS"/>
              </a:rPr>
              <a:t>t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and a bare form of a verb.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to danc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to chang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to heal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1T16:03:31Z</dcterms:created>
  <dc:creator>Diana Miller</dc:creator>
  <dc:description/>
  <dc:language>en-US</dc:language>
  <cp:lastModifiedBy>Diana Miller</cp:lastModifiedBy>
  <dcterms:modified xsi:type="dcterms:W3CDTF">2013-09-21T21:29:26Z</dcterms:modified>
  <cp:revision>1</cp:revision>
  <dc:subject/>
  <dc:title>Slide 1</dc:title>
</cp:coreProperties>
</file>