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053-7D2B-4B17-8BC7-58F64831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93C-2B0C-4BE1-8197-8F87E614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EA5-253B-4FB6-AF80-E1D406A4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4DB-F93F-46F4-A4AB-D44925CF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128-14B4-4597-9A9C-093CDE6F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3E1-2DD4-468F-BB38-97F05DC1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BF9-B064-4FAE-8099-F5F02357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834-5251-4D96-89AF-81FB8468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9F2-9AFB-400B-B68F-A0A2C4E0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E67-C3FB-49EF-8730-054503F1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917-A55C-4146-B620-1A3ED0D9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852-C4A3-4B71-B04B-B47B4BC7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3513-296A-4618-9A1A-8812817FBEF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07320" y="762120"/>
            <a:ext cx="5900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ree Types of Verba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Geru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finitiv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838080" y="1295280"/>
            <a:ext cx="7543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Gerun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—a basic verb with a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ending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leep  =   sleep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ait    =   wai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aste  =   tas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57200" y="76212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—a basic ver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ith a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ending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UT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hanging the function of the word from a verb to an adjective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elping ha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reaking hear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mering temp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066680" y="1295280"/>
            <a:ext cx="7010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finitive is a combination of the wor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a bare form of a verb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d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chan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he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03:31Z</dcterms:created>
  <dc:creator>Diana Miller</dc:creator>
  <dc:description/>
  <dc:language>en-US</dc:language>
  <cp:lastModifiedBy>Diana Miller</cp:lastModifiedBy>
  <dcterms:modified xsi:type="dcterms:W3CDTF">2013-09-21T21:29:26Z</dcterms:modified>
  <cp:revision>1</cp:revision>
  <dc:subject/>
  <dc:title>Slide 1</dc:title>
</cp:coreProperties>
</file>