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9E0-824E-4F2A-9EA5-CF250E4C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6EC-A274-4D40-8EE4-A7639D13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A8F-A1BB-4FBC-93A4-1CAFDBAE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73D6-ED76-4CBC-BEAC-38EFBB8A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C5D-D15C-49E9-B36B-5074B2BA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34B1-7945-49CC-8D55-C81A15CF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0F8-8DEF-4485-BD09-4E94AB21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3B6-D58E-4D86-9F1E-994133D0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EA6-78D3-448A-B136-E8C12A96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0DB-E5B3-4BD1-B160-C7148D83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343-45F7-48F8-B7F9-61AFE15E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81C-64B9-411D-ACE4-213E2D82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79C4-22F8-46AE-8915-6D4B01242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8600" y="838080"/>
            <a:ext cx="86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mmon weakness in writing is the lack of varied sentences. Becoming aware of three general types of sentences—the simple sentence, the compound, and the complex sentence--can help you vary the sentences in your wri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st effective writing uses a variety of the sentence typ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304920" y="380880"/>
            <a:ext cx="85341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mple sente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s the most basic elements that make it a sentence: a subject, a verb, and a completed thou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 of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mple sentenc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clude the follo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oe waited for the tra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"Joe" = subject, "waited" = ver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train was la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"The train" = subject, "was" = ver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304920" y="533520"/>
            <a:ext cx="853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imple sentence can also be referred to as a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dependent clau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referred to as "independent" because it can also stand by itself as a complete senten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se of too many simple sentences can make writing "choppy" and can prevent the writing from flowing smoothly.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609480"/>
            <a:ext cx="853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pound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efers to a sentence made up of two independent clauses (or complete sentences) connected to one another with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ordinating conjun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rdinating conjunctions are easy to remember if you think of the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FAN BOYS":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d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228600" y="380880"/>
            <a:ext cx="86868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Joe waited for the trai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79646"/>
                </a:solidFill>
                <a:latin typeface="Comic Sans MS"/>
              </a:rPr>
              <a:t>the train was late.</a:t>
            </a:r>
            <a:br>
              <a:rPr sz="3600"/>
            </a:br>
            <a:r>
              <a:rPr b="0" lang="en-US" sz="3600" spc="-1" strike="noStrike">
                <a:solidFill>
                  <a:srgbClr val="f79646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e here the different colors represent complete sentences combined into one sent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Comic Sans MS"/>
              </a:rPr>
              <a:t>I looked for Mary and Samantha at the bus stati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79646"/>
                </a:solidFill>
                <a:latin typeface="Comic Sans MS"/>
              </a:rPr>
              <a:t>they arrived at the station before noon and left on the bus before I arrive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22:24:46Z</dcterms:created>
  <dc:creator>Diana Miller</dc:creator>
  <dc:description/>
  <dc:language>en-US</dc:language>
  <cp:lastModifiedBy>Diana Miller</cp:lastModifiedBy>
  <dcterms:modified xsi:type="dcterms:W3CDTF">2013-09-22T01:28:40Z</dcterms:modified>
  <cp:revision>1</cp:revision>
  <dc:subject/>
  <dc:title>Slide 1</dc:title>
</cp:coreProperties>
</file>