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D4B-B0A0-4F78-B769-9EA0A823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35A-E2AA-4798-B507-82FBF8A3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603-8986-4DCA-9475-9D9D6BE8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B59-D40F-47B0-AFD2-67D6AEFC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DD0-FEF4-4234-8E7F-6FCB8F7C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8F9-BDE6-4CCF-94A0-C6A72668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EB7-5107-4E24-86A4-4BE639EE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A07-0D43-47B9-9973-23E13FE5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8AA-D3F6-48E3-9281-2F2875BD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83F-C935-4B3C-A3D2-EAA5480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6D3-5738-48B4-BF2C-F24C1032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C8B-AA64-4A61-96EB-A2BFEBFA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0021-92DA-4008-8AF5-39FA9BAF5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83808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mmon weakness in writing is the lack of varied sentences. Becoming aware of three general types of sentences—the simple sentence, the compound, and the complex sentence--can help you vary the sentences in your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ost effective writing uses a variety of the sentence typ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380880"/>
            <a:ext cx="85341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s the most basic elements that make it a sentence: a subject, a verb, and a completed thou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ple senten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clude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Joe waited for the tra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"Joe" = subject, "waited" = verb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train was l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"The train" = subject, "was" = 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304920" y="53352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imple sentence can also be referred to as a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dependent clau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referred to as "independent" because it can also stand by itself as a complete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too many simple sentences can make writing "choppy" and can prevent the writing from flowing smoothly.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04920" y="60948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mpound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fers to a sentence made up of two independent clauses (or complete sentences) connected to one another with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ordinating conjun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rdinating conjunctions are easy to remember if you think of th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FAN BOYS":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d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228600" y="380880"/>
            <a:ext cx="86868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Joe waited for the tra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 train was late.</a:t>
            </a:r>
            <a:br>
              <a:rPr sz="3600"/>
            </a:b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e here the different colors represent complete sentences combined into one sent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2d050"/>
                </a:solidFill>
                <a:latin typeface="Comic Sans MS"/>
              </a:rPr>
              <a:t>I looked for Mary and Samantha at the bus statio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u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79646"/>
                </a:solidFill>
                <a:latin typeface="Comic Sans MS"/>
              </a:rPr>
              <a:t>they arrived at the station before noon and left on the bus before I arriv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22:24:46Z</dcterms:created>
  <dc:creator>Diana Miller</dc:creator>
  <dc:description/>
  <dc:language>en-US</dc:language>
  <cp:lastModifiedBy>Diana Miller</cp:lastModifiedBy>
  <dcterms:modified xsi:type="dcterms:W3CDTF">2013-09-22T01:28:40Z</dcterms:modified>
  <cp:revision>1</cp:revision>
  <dc:subject/>
  <dc:title>Slide 1</dc:title>
</cp:coreProperties>
</file>