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1C82-A87B-4FBA-A479-50A7CCC12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BC5E-7551-40FA-8224-8FCB4B469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4689-D784-4A5E-85EF-9E9F04EEC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0EB2-C783-4A6D-A860-28F32FA3E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0944-A3D0-4155-8F13-41E37E9C2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2857-ADC1-4721-918B-6EC8B1579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02B8-E9F7-4C23-A77D-1BB07EA14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0B44-0E6F-456D-8805-D65A2A572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9E8E-95C0-498E-B919-5432C2DF6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9491-4E31-4862-9956-9AAB67EF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760D-AAA4-41D8-97F3-98D8301B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E9F5-41E5-4D14-B6E7-D6D37893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6AA47-8643-4C1E-B20A-46BBF4D807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8600" y="838080"/>
            <a:ext cx="8686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common weakness in writing is the lack of varied sentences. Becoming aware of three general types of sentences—the simple sentence, the compound, and the complex sentence--can help you vary the sentences in your writ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most effective writing uses a variety of the sentence types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304920" y="380880"/>
            <a:ext cx="853416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mple sentenc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has the most basic elements that make it a sentence: a subject, a verb, and a completed though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 of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mple sentenc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clude the follow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Joe waited for the train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"Joe" = subject, "waited" = verb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train was lat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"The train" = subject, "was" = ver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304920" y="533520"/>
            <a:ext cx="85341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simple sentence can also be referred to as an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dependent claus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is referred to as "independent" because it can also stand by itself as a complete sentenc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use of too many simple sentences can make writing "choppy" and can prevent the writing from flowing smoothly.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304920" y="609480"/>
            <a:ext cx="85341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mpound sentenc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refers to a sentence made up of two independent clauses (or complete sentences) connected to one another with a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ordinating conjunc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ordinating conjunctions are easy to remember if you think of the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"FAN BOYS":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d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t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t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228600" y="380880"/>
            <a:ext cx="8686800" cy="63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Comic Sans MS"/>
              </a:rPr>
              <a:t>Joe waited for the train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ut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79646"/>
                </a:solidFill>
                <a:latin typeface="Comic Sans MS"/>
              </a:rPr>
              <a:t>the train was late.</a:t>
            </a:r>
            <a:br>
              <a:rPr sz="3600"/>
            </a:br>
            <a:r>
              <a:rPr b="0" lang="en-US" sz="3600" spc="-1" strike="noStrike">
                <a:solidFill>
                  <a:srgbClr val="f79646"/>
                </a:solidFill>
                <a:latin typeface="Comic Sans MS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te here the different colors represent complete sentences combined into one sente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2d050"/>
                </a:solidFill>
                <a:latin typeface="Comic Sans MS"/>
              </a:rPr>
              <a:t>I looked for Mary and Samantha at the bus station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ut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79646"/>
                </a:solidFill>
                <a:latin typeface="Comic Sans MS"/>
              </a:rPr>
              <a:t>they arrived at the station before noon and left on the bus before I arrived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1T22:24:46Z</dcterms:created>
  <dc:creator>Diana Miller</dc:creator>
  <dc:description/>
  <dc:language>en-US</dc:language>
  <cp:lastModifiedBy>Diana Miller</cp:lastModifiedBy>
  <dcterms:modified xsi:type="dcterms:W3CDTF">2013-09-22T01:28:40Z</dcterms:modified>
  <cp:revision>1</cp:revision>
  <dc:subject/>
  <dc:title>Slide 1</dc:title>
</cp:coreProperties>
</file>