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F1F-9432-44FB-8047-EE33B5E6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346-34A8-4A59-92A6-EF567951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F80-0EAA-4653-95B0-93E5796D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5D9-3452-4173-924A-2865AD4B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C28-906B-4B4B-838B-3AA0431C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7B9-704E-4B97-9514-7FAEF5F4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01C-8E38-4F1F-B064-9201DA33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C4B-51A3-48F1-9D76-E7B5173F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7A8-4460-4348-AFF3-B9185A9F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8E6-84D3-4E24-8505-BAA7B56C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09A-F436-4AA9-858F-0A98602D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C8A-F2BD-4B38-BE87-C03C8E0C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E3C3-360E-402F-9A60-4D487A5A5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83808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mon weakness in writing is the lack of varied sentences. Becoming aware of three general types of sentences—the simple sentence, the compound, and the complex sentence--can help you vary the sentences in your wri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st effective writing uses a variety of the sentence typ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04920" y="380880"/>
            <a:ext cx="8534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ple sente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s the most basic elements that make it a sentence: a subject, a verb, and a completed thou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ple senten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clude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oe waited for the tra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"Joe" = subject, "waited" = ver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train was l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"The train" = subject, "was" =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304920" y="53352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imple sentence can also be referred to as a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dependent clau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referred to as "independent" because it can also stand by itself as a complete sent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se of too many simple sentences can make writing "choppy" and can prevent the writing from flowing smoothly.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60948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ound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fers to a sentence made up of two independent clauses (or complete sentences) connected to one another with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ordinating conjun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rdinating conjunctions are easy to remember if you think of the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FAN BOYS":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d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28600" y="380880"/>
            <a:ext cx="8686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Joe waited for the trai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the train was late.</a:t>
            </a:r>
            <a:br>
              <a:rPr sz="3600"/>
            </a:b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e here the different colors represent complete sentences combined into one sent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omic Sans MS"/>
              </a:rPr>
              <a:t>I looked for Mary and Samantha at the bus sta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they arrived at the station before noon and left on the bus before I arriv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22:24:46Z</dcterms:created>
  <dc:creator>Diana Miller</dc:creator>
  <dc:description/>
  <dc:language>en-US</dc:language>
  <cp:lastModifiedBy>Diana Miller</cp:lastModifiedBy>
  <dcterms:modified xsi:type="dcterms:W3CDTF">2013-09-22T01:28:40Z</dcterms:modified>
  <cp:revision>1</cp:revision>
  <dc:subject/>
  <dc:title>Slide 1</dc:title>
</cp:coreProperties>
</file>