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0B2-5AD8-44BF-98FB-DBBD18DD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B71-1D08-4FFF-9597-D6E6A613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62D-33B8-4759-8E31-ACC2987A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5F2-0387-4528-988C-B1340393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01A-A8B9-4A91-AA59-E5A932BE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CB9-E21D-42B9-9050-DFFE0420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8E7-A35C-4FB2-9618-FD6CEA88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49F-61FE-452E-AA62-F918D7AC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6191-E3EB-4EF0-9344-BE3271D8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7DD-33AF-4F60-86FD-ACEECD94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BB8-7E28-4B63-8793-A352B5F3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C5D-011B-46BA-90CA-44BF9AFE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7870-C3FD-46AA-9179-24644CC4E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83808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mmon weakness in writing is the lack of varied sentences. Becoming aware of three general types of sentences—the simple sentence, the compound, and the complex sentence--can help you vary the sentences in your wri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st effective writing uses a variety of the sentence typ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04920" y="380880"/>
            <a:ext cx="85341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mple sente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s the most basic elements that make it a sentence: a subject, a verb, and a completed thou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 of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mple senten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clude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oe waited for the tra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"Joe" = subject, "waited" = ver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train was l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"The train" = subject, "was" = ver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304920" y="53352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imple sentence can also be referred to as a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dependent clau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referred to as "independent" because it can also stand by itself as a complete sente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se of too many simple sentences can make writing "choppy" and can prevent the writing from flowing smoothly.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60948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pound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efers to a sentence made up of two independent clauses (or complete sentences) connected to one another with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ordinating conjun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rdinating conjunctions are easy to remember if you think of the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FAN BOYS":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d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228600" y="380880"/>
            <a:ext cx="86868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Joe waited for the trai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the train was late.</a:t>
            </a:r>
            <a:br>
              <a:rPr sz="3600"/>
            </a:b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e here the different colors represent complete sentences combined into one sent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Comic Sans MS"/>
              </a:rPr>
              <a:t>I looked for Mary and Samantha at the bus stat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they arrived at the station before noon and left on the bus before I arriv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22:24:46Z</dcterms:created>
  <dc:creator>Diana Miller</dc:creator>
  <dc:description/>
  <dc:language>en-US</dc:language>
  <cp:lastModifiedBy>Diana Miller</cp:lastModifiedBy>
  <dcterms:modified xsi:type="dcterms:W3CDTF">2013-09-22T01:28:40Z</dcterms:modified>
  <cp:revision>1</cp:revision>
  <dc:subject/>
  <dc:title>Slide 1</dc:title>
</cp:coreProperties>
</file>