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EB60-5B94-4464-BA4D-4916BFD8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C75C-EF88-4A3C-B29B-C36F374F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DCCD-8A1C-4452-9EB2-9D52D064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C357-4BE5-4A78-B364-27DADC1C3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541E-EC45-4F52-93DD-53C55E20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5642-E9CC-4514-90A8-6EAE96B9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C608-F11F-434B-98C4-4A4076EE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4C2B-012D-4D0C-B226-37D888B5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B512-A64C-4DDC-9838-B3509A33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90CA-7C54-4F90-B653-7AB7B35D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B67C-4302-4D24-9BAF-43B837CB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C39D-C5A1-4144-AA08-26B3B195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F25B-B3F5-4EF6-861A-319A07C042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8600" y="838080"/>
            <a:ext cx="8686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mmon weakness in writing is the lack of varied sentences. Becoming aware of three general types of sentences—the simple sentence, the compound, and the complex sentence--can help you vary the sentences in your writ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ost effective writing uses a variety of the sentence type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304920" y="380880"/>
            <a:ext cx="85341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mple senten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as the most basic elements that make it a sentence: a subject, a verb, and a completed thou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 of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mple sentenc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clude the follow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Joe waited for the trai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"Joe" = subject, "waited" = ver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train was lat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"The train" = subject, "was" = ver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304920" y="533520"/>
            <a:ext cx="8534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simple sentence can also be referred to as a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dependent clau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referred to as "independent" because it can also stand by itself as a complete senten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use of too many simple sentences can make writing "choppy" and can prevent the writing from flowing smoothly.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304920" y="609480"/>
            <a:ext cx="8534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mpound senten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refers to a sentence made up of two independent clauses (or complete sentences) connected to one another with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ordinating conjun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ordinating conjunctions are easy to remember if you think of the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"FAN BOYS":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d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t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t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228600" y="380880"/>
            <a:ext cx="868680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omic Sans MS"/>
              </a:rPr>
              <a:t>Joe waited for the trai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u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79646"/>
                </a:solidFill>
                <a:latin typeface="Comic Sans MS"/>
              </a:rPr>
              <a:t>the train was late.</a:t>
            </a:r>
            <a:br>
              <a:rPr sz="3600"/>
            </a:br>
            <a:r>
              <a:rPr b="0" lang="en-US" sz="3600" spc="-1" strike="noStrike">
                <a:solidFill>
                  <a:srgbClr val="f79646"/>
                </a:solidFill>
                <a:latin typeface="Comic Sans MS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e here the different colors represent complete sentences combined into one sent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Comic Sans MS"/>
              </a:rPr>
              <a:t>I looked for Mary and Samantha at the bus statio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u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79646"/>
                </a:solidFill>
                <a:latin typeface="Comic Sans MS"/>
              </a:rPr>
              <a:t>they arrived at the station before noon and left on the bus before I arrive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1T22:24:46Z</dcterms:created>
  <dc:creator>Diana Miller</dc:creator>
  <dc:description/>
  <dc:language>en-US</dc:language>
  <cp:lastModifiedBy>Diana Miller</cp:lastModifiedBy>
  <dcterms:modified xsi:type="dcterms:W3CDTF">2013-09-22T01:28:40Z</dcterms:modified>
  <cp:revision>1</cp:revision>
  <dc:subject/>
  <dc:title>Slide 1</dc:title>
</cp:coreProperties>
</file>