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4219-A29F-48B2-9F2B-704F3243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53AA-69A7-4165-A5FF-392B3083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640C-A7F4-45C9-8DBD-80885D144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157A-CA51-42A8-98D7-5F9DF12F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9FC9-5634-4AA3-92D0-9CF16391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80F6-2540-46E5-A6DE-CDDA495A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02DD-898A-4143-8709-FD12B1D5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DD5E-CF36-432D-8701-1E4A2B8D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A8ED-8094-4585-BC59-AEF33087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F47E-B5C1-4725-B9EF-9230183B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B72F-152E-4098-A819-27368379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F718-DBAB-4175-BFED-4E0B5199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de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d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de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de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de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de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e7a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e7a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e7a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6106-9C04-49E9-BC6B-C0EB259F8741}" type="slidenum">
              <a:rPr b="0" lang="en-US" sz="1200" spc="-1" strike="noStrike">
                <a:solidFill>
                  <a:srgbClr val="ffe7a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80880" y="609480"/>
            <a:ext cx="815364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definite Pronouns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veryone and Anybod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 an indefinite number o nouns.  They often sound like a lot of people but are usually treated as singular addressing no one person in particular.</a:t>
            </a: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o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s</a:t>
            </a: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ybod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</a:t>
            </a: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o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one  </a:t>
            </a: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bod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s</a:t>
            </a: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</a:t>
            </a: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2"/>
          <p:cNvSpPr/>
          <p:nvPr/>
        </p:nvSpPr>
        <p:spPr>
          <a:xfrm>
            <a:off x="304920" y="228600"/>
            <a:ext cx="8534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monstrative Pronouns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s, that, the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o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re demonstrative pronouns.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pronouns allow you to imagine pointing at something when you use them.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picture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pictures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ose pictures 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you see someone pointing at the pictures? 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304920" y="457200"/>
            <a:ext cx="8001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ciprocal Pronouns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fer to the members of a larger group. 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ach other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another 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1T16:59:18Z</dcterms:created>
  <dc:creator>Diana Miller</dc:creator>
  <dc:description/>
  <dc:language>en-US</dc:language>
  <cp:lastModifiedBy>Diana Miller</cp:lastModifiedBy>
  <dcterms:modified xsi:type="dcterms:W3CDTF">2013-09-21T22:57:59Z</dcterms:modified>
  <cp:revision>1</cp:revision>
  <dc:subject/>
  <dc:title>Slide 1</dc:title>
</cp:coreProperties>
</file>