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99E7-569B-4E21-9FE3-475BC129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32BD-E457-405C-AFA4-3C475448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12BD-1F13-4001-8061-CB2AF695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E81-4886-446D-8676-5AA4C4EA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3F5A-ACA1-4B79-A6FE-4358A29B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17E1-812F-4930-8A0B-0102AC44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92B1-AEC8-4BFB-83FF-5694845F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AE5A-1BFD-4C31-A708-3CBFB9D4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FD80-CF0C-4D92-AB73-3D13BD52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7C3-7EFC-4283-8125-934D47B8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56C7-B326-452E-AD39-774EB96C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683E-02B6-4DF4-97A5-B13C9277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6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d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d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d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d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d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d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e7a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e7a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e66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e7a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10E0-27B4-4F84-89AF-8FA74CC01403}" type="slidenum">
              <a:rPr b="0" lang="en-US" sz="1200" spc="-1" strike="noStrike">
                <a:solidFill>
                  <a:srgbClr val="ffe7a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0880" y="609480"/>
            <a:ext cx="815364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definite Pronouns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eryone and Anybod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 an indefinite number o nouns.  They often sound like a lot of people but are usually treated as singular addressing no one person in particular.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s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bod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one  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bod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s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2"/>
          <p:cNvSpPr/>
          <p:nvPr/>
        </p:nvSpPr>
        <p:spPr>
          <a:xfrm>
            <a:off x="304920" y="228600"/>
            <a:ext cx="8534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monstrative Pronouns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s, that, the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o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re demonstrative pronouns.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ronouns allow you to imagine pointing at something when you use them.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picture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ictures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se pictures 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see someone pointing at the pictures? 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d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04920" y="45720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ciprocal Pronouns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er to the members of a larger group. 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ch other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6:59:18Z</dcterms:created>
  <dc:creator>Diana Miller</dc:creator>
  <dc:description/>
  <dc:language>en-US</dc:language>
  <cp:lastModifiedBy>Diana Miller</cp:lastModifiedBy>
  <dcterms:modified xsi:type="dcterms:W3CDTF">2013-09-21T22:57:59Z</dcterms:modified>
  <cp:revision>1</cp:revision>
  <dc:subject/>
  <dc:title>Slide 1</dc:title>
</cp:coreProperties>
</file>