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479-AA4A-4EAC-A5E0-7BD249CA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D7A-5CC3-4A0C-ABED-15BAE451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31E-542C-45C4-9DA6-C999262A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619-B901-45BC-9BA7-8DD64B61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6ED-A958-4729-8671-B9CD6D0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390D-D2CD-41E9-A833-0966D317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ED7-7A97-497B-9BB6-EAAD5AF9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EC5-50BF-470F-B822-4FF02BC2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F4C-42EF-4F4E-A828-C8B2085D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95C-7194-42F3-BD3D-B29A459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CD01-436B-4F0F-ABC5-9648CB0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3E7-E945-4596-A889-E78D11A6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7a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C57C-C0EE-449A-9281-02686AE3E0CD}" type="slidenum">
              <a:rPr b="0" lang="en-US" sz="1200" spc="-1" strike="noStrike">
                <a:solidFill>
                  <a:srgbClr val="ffe7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609480"/>
            <a:ext cx="8153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finite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and Anybod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 an indefinite number o nouns.  They often sound like a lot of people but are usually treated as singular addressing no one person in particular.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one 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304920" y="228600"/>
            <a:ext cx="8534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onstrative Pronoun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, that, the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re demonstrative pronouns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ronouns allow you to imagine pointing at something when you use them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icture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icture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se pictures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see someone pointing at the pictures?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45720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iprocal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 to the members of a larger group.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ch other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59:18Z</dcterms:created>
  <dc:creator>Diana Miller</dc:creator>
  <dc:description/>
  <dc:language>en-US</dc:language>
  <cp:lastModifiedBy>Diana Miller</cp:lastModifiedBy>
  <dcterms:modified xsi:type="dcterms:W3CDTF">2013-09-21T22:57:59Z</dcterms:modified>
  <cp:revision>1</cp:revision>
  <dc:subject/>
  <dc:title>Slide 1</dc:title>
</cp:coreProperties>
</file>