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131-73E5-4831-8D95-FE57BA1C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785-56FC-4A65-8B84-E2D6B2A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0D0-1C72-4D3A-97EC-A99A3E04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9BB-434F-44FC-B4A5-F1CC2121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19A-D9DA-42E2-9FFF-2656BA6C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052-65FE-454C-A89C-4401F38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3F9-18F7-4A31-82A4-430707B5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431-0491-4D83-9BD3-3AA06D4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371-6958-46B3-BB77-E671372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642-100C-4473-B714-24F2CBF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1EE-AC68-4399-9771-A5A87E1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46B-2759-4FDF-B978-5E82372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7a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464-6F58-40EB-BEAC-1E5A424CFDB0}" type="slidenum">
              <a:rPr b="0" lang="en-US" sz="1200" spc="-1" strike="noStrike">
                <a:solidFill>
                  <a:srgbClr val="ffe7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609480"/>
            <a:ext cx="8153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finite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and Anybod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 indefinite number o nouns.  They often sound like a lot of people but are usually treated as singular addressing no one person in particular.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ne 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04920" y="22860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nstrative Pronoun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, that, the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re demonstrative pronouns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nouns allow you to imagine pointing at something when you use them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icture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pictures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see someone pointing at the pictures?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4572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iprocal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the members of a larger group.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ch oth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59:18Z</dcterms:created>
  <dc:creator>Diana Miller</dc:creator>
  <dc:description/>
  <dc:language>en-US</dc:language>
  <cp:lastModifiedBy>Diana Miller</cp:lastModifiedBy>
  <dcterms:modified xsi:type="dcterms:W3CDTF">2013-09-21T22:57:59Z</dcterms:modified>
  <cp:revision>1</cp:revision>
  <dc:subject/>
  <dc:title>Slide 1</dc:title>
</cp:coreProperties>
</file>