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0E2-6196-4046-8975-73E24830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D39-9377-4BD7-84F9-67B17C42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BF7-6E3B-4560-A47E-0A78BE0C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40F-C2FC-4693-AD2F-71C5559E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2B0-ACB3-4955-A851-C19223EB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082-4D07-4A9A-9AD6-81D6E13C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FF5-F50E-4FE5-926D-933EAF78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1A7-014D-44C5-8963-23CF00CA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AEA-2CEE-4848-A8E0-576E7E4A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856-6B18-42E3-8BC0-1FDF7041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BFC-66FC-4ADD-BE7F-B75E554D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89E-3C10-4565-A09A-8E75613F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5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b2c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c9d8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EF74-FFB5-4611-9E68-F8C81A672118}" type="slidenum">
              <a:rPr b="0" lang="en-US" sz="1200" spc="-1" strike="noStrike">
                <a:solidFill>
                  <a:srgbClr val="8cc9d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762120"/>
            <a:ext cx="8763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omic Sans MS"/>
              </a:rPr>
              <a:t>Combining Pronouns:  Three Does Not Have to be a Crowd.</a:t>
            </a: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Even when you are in a crown, pretend you’re the only one ther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t’s the same thing when you writ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28600" y="38088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n also sa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I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me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Patty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ay….NO WAY….I love to play…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Eric and I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Eric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…NO WAY…. I went for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 drive…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144792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you tr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bring a friend....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nd 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See how simple it is.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lways “listen” to your writer’s voice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7:05:48Z</dcterms:created>
  <dc:creator>Diana Miller</dc:creator>
  <dc:description/>
  <dc:language>en-US</dc:language>
  <cp:lastModifiedBy>Diana Miller</cp:lastModifiedBy>
  <dcterms:modified xsi:type="dcterms:W3CDTF">2013-09-21T23:25:35Z</dcterms:modified>
  <cp:revision>1</cp:revision>
  <dc:subject/>
  <dc:title>Slide 1</dc:title>
</cp:coreProperties>
</file>