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6B13-0B90-4AF7-9931-6D9DC4A9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503C-2FAD-4723-ACEB-10B25AD5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CD2-6900-48C2-8ACA-FD37D5AA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73B2-147D-467F-8BC7-A56EE95F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98DC-E5A5-46FE-AF92-3122C3A8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A76-DDC0-472C-9FED-3A4EB273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5498-6C41-405B-B732-E4C82B1F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236-A583-43D9-AA00-4AF1A122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3E0A-6FCF-4435-AEFE-B3564EF7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1054-4313-44F1-87E1-CEC98097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B71C-3D08-417D-9FA0-D00231D9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E88-B0FE-401E-AEE4-5D3F3EEA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75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b2c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b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1b2c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1b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1b2c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1b2c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1b2c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1b2c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c9d8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c9d8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c9d8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5177-BAC2-4554-BFDA-D6B232A79C7A}" type="slidenum">
              <a:rPr b="0" lang="en-US" sz="1200" spc="-1" strike="noStrike">
                <a:solidFill>
                  <a:srgbClr val="8cc9d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8600" y="762120"/>
            <a:ext cx="8763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omic Sans MS"/>
              </a:rPr>
              <a:t>Combining Pronouns:  Three Does Not Have to be a Crowd.</a:t>
            </a:r>
            <a:endParaRPr b="0" lang="en-US" sz="24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Even when you are in a crown, pretend you’re the only one there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I love to play my guitar and sing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            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OR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Me love to ply my guitar and sing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I went for a drive in the country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Or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Me went for a drive in the country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It’s the same thing when you write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b2c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228600" y="380880"/>
            <a:ext cx="891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I love to play my guitar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OR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love to ply my guitar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Then also say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atty and I love to play our guitars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t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atty and me love to play our guitars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retend Patty isn’t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there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love to play….NO WAY….I love to play…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Eric and I went for a drive in the country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t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went for a drive in the country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retend Eric isn’t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there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went for a drive…NO WAY…. I went for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a drive…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04920" y="1447920"/>
            <a:ext cx="88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w you try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Do something fun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w bring a friend....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And do something fun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See how simple it is.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Always “listen” to your writer’s voice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7:05:48Z</dcterms:created>
  <dc:creator>Diana Miller</dc:creator>
  <dc:description/>
  <dc:language>en-US</dc:language>
  <cp:lastModifiedBy>Diana Miller</cp:lastModifiedBy>
  <dcterms:modified xsi:type="dcterms:W3CDTF">2013-09-21T23:25:35Z</dcterms:modified>
  <cp:revision>1</cp:revision>
  <dc:subject/>
  <dc:title>Slide 1</dc:title>
</cp:coreProperties>
</file>