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4D4-B06E-4E43-BE9F-C89309DD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ECC-6E46-42CF-A223-9E23853C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6E9-8E12-4E56-B019-D5BC9044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4C6-83ED-4271-B255-6321CDAE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94E-FD11-4CA1-85A5-31B8DFB2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881-8BD2-4AC0-8640-96AF0171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260-9A35-443A-ABE7-0DF550CC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722-4CED-4D5D-804D-6882189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491-4E3A-4231-8DD0-59CDAE11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BA3-7349-481A-93FE-6A441C6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66E-889B-4310-B5B7-B2E4400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E77-D52F-40B5-9D94-D87AFBF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5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b2c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b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b2c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1b2c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b2c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cc9d8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c9d8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B7A-6C0E-4A15-93A9-27FBDCB061DD}" type="slidenum">
              <a:rPr b="0" lang="en-US" sz="1200" spc="-1" strike="noStrike">
                <a:solidFill>
                  <a:srgbClr val="8cc9d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762120"/>
            <a:ext cx="8763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omic Sans MS"/>
              </a:rPr>
              <a:t>Combining Pronouns:  Three Does Not Have to be a Crowd.</a:t>
            </a: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Even when you are in a crown, pretend you’re the only one ther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bf5f9"/>
                </a:solidFill>
                <a:latin typeface="Comic Sans MS"/>
              </a:rPr>
              <a:t>It’s the same thing when you write.</a:t>
            </a:r>
            <a:endParaRPr b="0" lang="en-US" sz="23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228600" y="38088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I love to pla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OR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y my guitar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n also sa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I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atty and me love to play our guitars and sing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Patty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love to play….NO WAY….I love to play…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What would you say?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Eric and I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t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 in the country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Pretend Eric isn’t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there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Me went for a drive…NO WAY…. I went for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 drive…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1447920"/>
            <a:ext cx="883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you try…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Now bring a friend....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nd do something fun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See how simple it is.  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omic Sans MS"/>
              </a:rPr>
              <a:t>Always “listen” to your writer’s voice.</a:t>
            </a: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b2c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7:05:48Z</dcterms:created>
  <dc:creator>Diana Miller</dc:creator>
  <dc:description/>
  <dc:language>en-US</dc:language>
  <cp:lastModifiedBy>Diana Miller</cp:lastModifiedBy>
  <dcterms:modified xsi:type="dcterms:W3CDTF">2013-09-21T23:25:35Z</dcterms:modified>
  <cp:revision>1</cp:revision>
  <dc:subject/>
  <dc:title>Slide 1</dc:title>
</cp:coreProperties>
</file>