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AE42-F1CF-4C89-B58F-00F04A9B4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3A9F-F8F8-4B14-8E84-D7D3FE374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C82F-C2F7-46B1-B97F-BB0FEFDC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9935-F290-4193-AE8D-3737927F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157-B40F-4591-B93D-ADF33CC9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267-C34E-415F-8B85-09CFD704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55A-C44C-4DC4-AAE4-968419A4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3DA-9A51-4E56-87E9-4BD56202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A42-7461-4D47-8C92-7F445354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D56-1FDA-4542-B464-EB1CF0CF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3E9-0B61-43AC-91BE-8AEE1A8D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670-C5FE-40A8-8539-4F8C2724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619-C880-438F-B7AE-B54E2E82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8CE-C4D1-4D88-8625-44654979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EBC1-BE01-4AA5-92AE-7DC253E9F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6075000" y="990720"/>
            <a:ext cx="267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d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362320" y="3200400"/>
            <a:ext cx="152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724280" y="198108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un—excessive praise, flattery, even w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4038480" cy="3695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380880" y="53341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le Vicky was sincere in her adulation for Alex, he was a bit conceited in accepting the compl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6053040" y="1066680"/>
            <a:ext cx="22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nn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4724280" y="20574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b—to cooperate secretly in a wrong do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228600" y="5562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nly willingly connived in the plan to toilet paper the school’s courty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img.chinalovematch.net/files/blog/image/355/201012110309473272433.jpg"/>
          <p:cNvPicPr/>
          <p:nvPr/>
        </p:nvPicPr>
        <p:blipFill>
          <a:blip r:embed="rId1"/>
          <a:stretch/>
        </p:blipFill>
        <p:spPr>
          <a:xfrm>
            <a:off x="228600" y="380880"/>
            <a:ext cx="38098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5257800" y="990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ig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114800" y="21337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un—one who is intolerant of another’s beliefs, opinion, or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net-burst.net/hot/bigot.gif"/>
          <p:cNvPicPr/>
          <p:nvPr/>
        </p:nvPicPr>
        <p:blipFill>
          <a:blip r:embed="rId1"/>
          <a:stretch/>
        </p:blipFill>
        <p:spPr>
          <a:xfrm>
            <a:off x="685800" y="458640"/>
            <a:ext cx="2971800" cy="4951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228600" y="55627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 bigot was known to  “stick out his tongue”  at people who were different than him in any 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5791320" y="1371600"/>
            <a:ext cx="242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p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4724280" y="266688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un—inequality; differ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educationviews.org/wp-content/uploads/2012/04/disparity.jpg"/>
          <p:cNvPicPr/>
          <p:nvPr/>
        </p:nvPicPr>
        <p:blipFill>
          <a:blip r:embed="rId1"/>
          <a:stretch/>
        </p:blipFill>
        <p:spPr>
          <a:xfrm>
            <a:off x="685800" y="762120"/>
            <a:ext cx="3276720" cy="4495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304920" y="54864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disparity between upper management and the common worker was gre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5996160" y="685800"/>
            <a:ext cx="17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thn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3505320" y="281952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495680" y="182880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dj.—of or having to do with races or classes of people and their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pocho.com/wp-content/uploads/2011/12/save-ethnic-studies.jpg"/>
          <p:cNvPicPr/>
          <p:nvPr/>
        </p:nvPicPr>
        <p:blipFill>
          <a:blip r:embed="rId1"/>
          <a:stretch/>
        </p:blipFill>
        <p:spPr>
          <a:xfrm>
            <a:off x="685800" y="838080"/>
            <a:ext cx="2970360" cy="4430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380880" y="5562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udents are encouraged to enroll in classes that explore ethnic divers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5T15:47:26Z</dcterms:created>
  <dc:creator>Diana Miller</dc:creator>
  <dc:description/>
  <dc:language>en-US</dc:language>
  <cp:lastModifiedBy>Diana Miller</cp:lastModifiedBy>
  <dcterms:modified xsi:type="dcterms:W3CDTF">2013-10-05T19:33:06Z</dcterms:modified>
  <cp:revision>1</cp:revision>
  <dc:subject/>
  <dc:title>Slide 1</dc:title>
</cp:coreProperties>
</file>