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888-A356-410D-871A-93C12415A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E22-9A59-4441-B808-C6EEEE052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3D0-9F38-41FC-AC9A-58A73947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1B5-3BBA-46B0-B6C4-B9CE53C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E09-A58C-47F1-AA11-03671F88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0D3-FFF3-4793-8D5A-CF75EDEC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46C-2C2F-472D-A725-0697956C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F21-79D3-453E-BAE5-0496EE9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C6A-942F-4050-9CB9-2FBD2C51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DFD-27D6-47CB-B605-C01CF642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6DC-8E1E-448F-806A-690DD30B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9C5-A9FF-4025-976A-AFB9587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845-FE99-49DE-A07E-BBC1AF4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AF4-686D-4EE5-9A23-A291A050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D43-E2B9-4852-AE2C-4C9B7B2D2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075000" y="990720"/>
            <a:ext cx="267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d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2320" y="3200400"/>
            <a:ext cx="152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724280" y="198108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un—excessive praise, flattery, even wor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4038480" cy="3695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80880" y="5334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le Vicky was sincere in her adulation for Alex, he was a bit conceited in accepting the compl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6053040" y="1066680"/>
            <a:ext cx="22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nn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724280" y="205740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cooperate secretly in a wrong d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228600" y="5562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ly willingly connived in the plan to toilet paper the school’s courty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mg.chinalovematch.net/files/blog/image/355/201012110309473272433.jpg"/>
          <p:cNvPicPr/>
          <p:nvPr/>
        </p:nvPicPr>
        <p:blipFill>
          <a:blip r:embed="rId1"/>
          <a:stretch/>
        </p:blipFill>
        <p:spPr>
          <a:xfrm>
            <a:off x="228600" y="380880"/>
            <a:ext cx="380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5257800" y="99072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ig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11480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—one who is intolerant of another’s beliefs, opinion, or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net-burst.net/hot/bigot.gif"/>
          <p:cNvPicPr/>
          <p:nvPr/>
        </p:nvPicPr>
        <p:blipFill>
          <a:blip r:embed="rId1"/>
          <a:stretch/>
        </p:blipFill>
        <p:spPr>
          <a:xfrm>
            <a:off x="685800" y="458640"/>
            <a:ext cx="2971800" cy="4951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228600" y="5562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bigot was known to  “stick out his tongue”  at people who were different than him in any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791320" y="1371600"/>
            <a:ext cx="2425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par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4724280" y="26668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un—inequality; differ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educationviews.org/wp-content/uploads/2012/04/disparity.jpg"/>
          <p:cNvPicPr/>
          <p:nvPr/>
        </p:nvPicPr>
        <p:blipFill>
          <a:blip r:embed="rId1"/>
          <a:stretch/>
        </p:blipFill>
        <p:spPr>
          <a:xfrm>
            <a:off x="685800" y="76212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04920" y="54864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disparity between upper management and the common worker was gre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5996160" y="685800"/>
            <a:ext cx="17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thn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505320" y="281952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495680" y="1828800"/>
            <a:ext cx="441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j.—of or having to do with races or classes of people and their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pocho.com/wp-content/uploads/2011/12/save-ethnic-studies.jpg"/>
          <p:cNvPicPr/>
          <p:nvPr/>
        </p:nvPicPr>
        <p:blipFill>
          <a:blip r:embed="rId1"/>
          <a:stretch/>
        </p:blipFill>
        <p:spPr>
          <a:xfrm>
            <a:off x="685800" y="838080"/>
            <a:ext cx="2970360" cy="4430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380880" y="5562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ents are encouraged to enroll in classes that explore ethnic divers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5:47:26Z</dcterms:created>
  <dc:creator>Diana Miller</dc:creator>
  <dc:description/>
  <dc:language>en-US</dc:language>
  <cp:lastModifiedBy>Diana Miller</cp:lastModifiedBy>
  <dcterms:modified xsi:type="dcterms:W3CDTF">2013-10-05T19:33:06Z</dcterms:modified>
  <cp:revision>1</cp:revision>
  <dc:subject/>
  <dc:title>Slide 1</dc:title>
</cp:coreProperties>
</file>