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CC17-592E-4087-B607-05247C192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A4F-74E3-461B-B870-CFA57D57E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1FE-FB0A-4001-8968-E1B6F3B7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6AC-E898-42FA-9562-A4B767A6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1EE-79CB-4C99-A78C-FD61FC8D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112-3D7B-4271-A57A-D25B1960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C4C-1B49-4973-8FA2-C422F466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777-09D8-4427-829C-93885E6B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BC1-2090-4D6D-85F3-391DED08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CCE-C3C7-4280-88F9-FD020C4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6B6-87A0-4E6D-91EB-353C7341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AB6-5871-48C9-8BE0-24BE4FEC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0FC-9429-485B-9716-5810490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AB6-EEF9-4185-8D45-220B8358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7CB-E81E-4A1B-8048-E6E449506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75000" y="99072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d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2320" y="3200400"/>
            <a:ext cx="15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72428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un—excessive praise, flattery, even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38480" cy="3695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Vicky was sincere in her adulation for Alex, he was a bit conceited in accepting the comp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6053040" y="1066680"/>
            <a:ext cx="22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n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724280" y="20574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cooperate secretly in a wrong d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" y="556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ly willingly connived in the plan to toilet paper the school’s courty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.chinalovematch.net/files/blog/image/355/201012110309473272433.jpg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25780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11480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—one who is intolerant of another’s beliefs, opinion, 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et-burst.net/hot/bigot.gif"/>
          <p:cNvPicPr/>
          <p:nvPr/>
        </p:nvPicPr>
        <p:blipFill>
          <a:blip r:embed="rId1"/>
          <a:stretch/>
        </p:blipFill>
        <p:spPr>
          <a:xfrm>
            <a:off x="685800" y="458640"/>
            <a:ext cx="2971800" cy="495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228600" y="5562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bigot was known to  “stick out his tongue”  at people who were different than him in any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91320" y="1371600"/>
            <a:ext cx="242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p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724280" y="2666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un—inequality; differ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educationviews.org/wp-content/uploads/2012/04/disparity.jpg"/>
          <p:cNvPicPr/>
          <p:nvPr/>
        </p:nvPicPr>
        <p:blipFill>
          <a:blip r:embed="rId1"/>
          <a:stretch/>
        </p:blipFill>
        <p:spPr>
          <a:xfrm>
            <a:off x="685800" y="7621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4920" y="54864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isparity between upper management and the common worker was gr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996160" y="685800"/>
            <a:ext cx="17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thn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505320" y="28195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495680" y="182880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j.—of or having to do with races or classes of people and their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pocho.com/wp-content/uploads/2011/12/save-ethnic-studies.jpg"/>
          <p:cNvPicPr/>
          <p:nvPr/>
        </p:nvPicPr>
        <p:blipFill>
          <a:blip r:embed="rId1"/>
          <a:stretch/>
        </p:blipFill>
        <p:spPr>
          <a:xfrm>
            <a:off x="685800" y="838080"/>
            <a:ext cx="2970360" cy="4430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80880" y="5562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encouraged to enroll in classes that explore ethnic divers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5:47:26Z</dcterms:created>
  <dc:creator>Diana Miller</dc:creator>
  <dc:description/>
  <dc:language>en-US</dc:language>
  <cp:lastModifiedBy>Diana Miller</cp:lastModifiedBy>
  <dcterms:modified xsi:type="dcterms:W3CDTF">2013-10-05T19:33:06Z</dcterms:modified>
  <cp:revision>1</cp:revision>
  <dc:subject/>
  <dc:title>Slide 1</dc:title>
</cp:coreProperties>
</file>