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A5F2-5C1D-41DA-A6C8-8F520BE6E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68F2-EC71-4054-B88D-636EDD46D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712-F1F2-4D5F-B7C4-7AA4A816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FD8-73D3-4F43-91D6-84D2F4BC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4B9-3B3C-4BE5-A585-96022F88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7C7-D2BD-40B3-AA0F-880055C1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92B-ADBC-4BD2-A6C1-BB6932BD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9FA-51A2-456F-947B-91460C76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DE8-AF81-4D1C-A9E7-3D4B74A2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0D9-ED5F-408B-831E-79A87329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FC3-BBF4-46D7-92C4-9139C68A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050-FA33-4838-B77A-A3B3BE1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63D-2C80-4924-8469-6A7BD215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08D-5706-4FEE-957C-3F025E3D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EFA-7977-4467-A1BB-2F2E98B1E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075000" y="990720"/>
            <a:ext cx="26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d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62320" y="3200400"/>
            <a:ext cx="152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724280" y="198108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un—excessive praise, flattery, even w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038480" cy="3695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80880" y="5334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le Vicky was sincere in her adulation for Alex, he was a bit conceited in accepting the compl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6053040" y="1066680"/>
            <a:ext cx="22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n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724280" y="20574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cooperate secretly in a wrong do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28600" y="5562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nly willingly connived in the plan to toilet paper the school’s courty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img.chinalovematch.net/files/blog/image/355/201012110309473272433.jpg"/>
          <p:cNvPicPr/>
          <p:nvPr/>
        </p:nvPicPr>
        <p:blipFill>
          <a:blip r:embed="rId1"/>
          <a:stretch/>
        </p:blipFill>
        <p:spPr>
          <a:xfrm>
            <a:off x="228600" y="380880"/>
            <a:ext cx="38098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5257800" y="990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11480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un—one who is intolerant of another’s beliefs, opinion, or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net-burst.net/hot/bigot.gif"/>
          <p:cNvPicPr/>
          <p:nvPr/>
        </p:nvPicPr>
        <p:blipFill>
          <a:blip r:embed="rId1"/>
          <a:stretch/>
        </p:blipFill>
        <p:spPr>
          <a:xfrm>
            <a:off x="685800" y="458640"/>
            <a:ext cx="2971800" cy="4951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228600" y="5562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 bigot was known to  “stick out his tongue”  at people who were different than him in any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791320" y="1371600"/>
            <a:ext cx="242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p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4724280" y="26668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un—inequality; differ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educationviews.org/wp-content/uploads/2012/04/disparity.jpg"/>
          <p:cNvPicPr/>
          <p:nvPr/>
        </p:nvPicPr>
        <p:blipFill>
          <a:blip r:embed="rId1"/>
          <a:stretch/>
        </p:blipFill>
        <p:spPr>
          <a:xfrm>
            <a:off x="685800" y="762120"/>
            <a:ext cx="327672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04920" y="54864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disparity between upper management and the common worker was gre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996160" y="685800"/>
            <a:ext cx="17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thn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3505320" y="281952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495680" y="182880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j.—of or having to do with races or classes of people and their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pocho.com/wp-content/uploads/2011/12/save-ethnic-studies.jpg"/>
          <p:cNvPicPr/>
          <p:nvPr/>
        </p:nvPicPr>
        <p:blipFill>
          <a:blip r:embed="rId1"/>
          <a:stretch/>
        </p:blipFill>
        <p:spPr>
          <a:xfrm>
            <a:off x="685800" y="838080"/>
            <a:ext cx="2970360" cy="4430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80880" y="5562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ents are encouraged to enroll in classes that explore ethnic divers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15:47:26Z</dcterms:created>
  <dc:creator>Diana Miller</dc:creator>
  <dc:description/>
  <dc:language>en-US</dc:language>
  <cp:lastModifiedBy>Diana Miller</cp:lastModifiedBy>
  <dcterms:modified xsi:type="dcterms:W3CDTF">2013-10-05T19:33:06Z</dcterms:modified>
  <cp:revision>1</cp:revision>
  <dc:subject/>
  <dc:title>Slide 1</dc:title>
</cp:coreProperties>
</file>