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8E4-7719-4F31-B148-C29E093C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C60-2385-4958-8FC3-31F9DD2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131-7222-4B73-A37C-025C5EE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077-015F-4072-B107-84AFF1F9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06D-5F53-4EDD-8C1A-207DF8EB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28D-5311-438B-9AF9-F0A32815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E14-274F-4E37-B8F8-9CF86317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5DD-0B37-4015-B300-AD0D6B84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942-33DD-4A88-9897-9EA00C4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37A-F2AC-4E91-9B96-5C94E07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E6C-95D1-4DFF-AB78-F59F3C3F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16D-CDCB-4B8A-9FCF-93971BD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154-28DC-4393-8466-2FF154370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8148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419720" y="22860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find not guilty of a fault or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133240" y="7621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cqu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33920" cy="3830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22860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gallery erupted in applause when the jury acquitted the prot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572000" y="17524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un—a strong defense; a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722920" y="68580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stood as a bastion watching over the kingdom and protecting it from the ene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2432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4800600" y="1295280"/>
            <a:ext cx="152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2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0" y="2514600"/>
            <a:ext cx="4419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verb—to work with another toward a go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56720" y="990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4920" y="5257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mbers of the panel collaborated and come to a decision that benefited the members of each group represen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552760" cy="5410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33920" y="1828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j.—lacking in self-confidence; s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196960" y="6858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i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590920" y="37339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ever Snow White was near, Bashful became even more diffident than us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228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733920" y="2666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be delighted beyond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667040" y="12193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rap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85800" y="51814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bby felt enraptured in the knowledge that school was finally out for the summ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4:21Z</dcterms:created>
  <dc:creator>Diana Miller</dc:creator>
  <dc:description/>
  <dc:language>en-US</dc:language>
  <cp:lastModifiedBy>Diana Miller</cp:lastModifiedBy>
  <dcterms:modified xsi:type="dcterms:W3CDTF">2013-09-01T23:36:21Z</dcterms:modified>
  <cp:revision>2</cp:revision>
  <dc:subject/>
  <dc:title>Slide 1</dc:title>
</cp:coreProperties>
</file>