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2F1-BF46-4A46-A7DF-E2BCC74B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54F-0D47-49B0-B500-1A4AC316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FBA-704C-483E-A3A8-031699CC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4C9-4487-4C27-A9B6-C9ABA141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0E0-4D8D-4293-B3DB-76CDE267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CF0-787F-400E-AE1E-87CDEC43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045-DF34-4AC6-8A59-649BA2D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B97-5A30-4DC5-A675-F38027B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167-5492-4E26-B026-5056730D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C66-A383-4157-ACEC-B60C7CC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469-9E6C-4A60-944B-4C5D2676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57C-F3E9-4167-974A-259D2DF8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3FA-B570-421F-A53C-FBA989EE5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8148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419720" y="22860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find not guilty of a fault or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133240" y="7621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cqu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33920" cy="3830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22860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gallery erupted in applause when the jury acquitted the prot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572000" y="17524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un—a strong defense; a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722920" y="68580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stood as a bastion watching over the kingdom and protecting it from the ene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2432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4800600" y="1295280"/>
            <a:ext cx="152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2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0" y="2514600"/>
            <a:ext cx="4419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verb—to work with another toward a go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56720" y="990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4920" y="5257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mbers of the panel collaborated and come to a decision that benefited the members of each group represen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552760" cy="5410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33920" y="1828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j.—lacking in self-confidence; s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196960" y="6858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i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590920" y="37339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ever Snow White was near, Bashful became even more diffident than us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228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733920" y="2666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be delighted beyond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667040" y="12193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rap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85800" y="51814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bby felt enraptured in the knowledge that school was finally out for the summ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4:21Z</dcterms:created>
  <dc:creator>Diana Miller</dc:creator>
  <dc:description/>
  <dc:language>en-US</dc:language>
  <cp:lastModifiedBy>Diana Miller</cp:lastModifiedBy>
  <dcterms:modified xsi:type="dcterms:W3CDTF">2013-09-01T23:36:21Z</dcterms:modified>
  <cp:revision>2</cp:revision>
  <dc:subject/>
  <dc:title>Slide 1</dc:title>
</cp:coreProperties>
</file>