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D1F-B9F7-4E5F-94D3-4BE4F115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42B-E66B-40F5-9227-52010F25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CB4-B8CB-4B7F-88B5-56940184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FD7-8890-48C0-9242-6B138098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2C7A-6086-4EF8-9DE0-8A8F0CCD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486-F3EE-432F-B7A4-B14D9CFA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CFF-F8DC-4C10-BA56-976E46FE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F4A-FBBA-4440-B98C-8A04705D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4ED-961B-4AFC-A906-17BB2012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F44-65EA-46C9-988B-574652D6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9FC-B3F6-4E04-A6D8-D9BEA4F3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2DD-3751-4431-BF5F-907EE9A1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C484-9245-422E-9099-BE0EC7759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181480" y="1066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419720" y="22860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b—to find not guilty of a fault or cr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133240" y="762120"/>
            <a:ext cx="215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cqu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733920" cy="3830760"/>
          </a:xfrm>
          <a:prstGeom prst="rect">
            <a:avLst/>
          </a:prstGeom>
          <a:ln w="0">
            <a:noFill/>
          </a:ln>
        </p:spPr>
      </p:pic>
      <p:sp>
        <p:nvSpPr>
          <p:cNvPr id="45" name="TextBox 8"/>
          <p:cNvSpPr/>
          <p:nvPr/>
        </p:nvSpPr>
        <p:spPr>
          <a:xfrm>
            <a:off x="228600" y="4572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gallery erupted in applause when the jury acquitted the protes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4572000" y="1752480"/>
            <a:ext cx="411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un—a strong defense; a f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722920" y="685800"/>
            <a:ext cx="210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a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28600" y="5105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 stood as a bastion watching over the kingdom and protecting it from the ene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32432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4800600" y="1295280"/>
            <a:ext cx="152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520" y="90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572000" y="2514600"/>
            <a:ext cx="4419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verb—to work with another toward a go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256720" y="99072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llabor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304920" y="52578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members of the panel collaborated and come to a decision that benefited the members of each group represen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2552760" cy="5410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733920" y="18288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j.—lacking in self-confidence; s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5196960" y="685800"/>
            <a:ext cx="243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ffid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590920" y="373392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ever Snow White was near, Bashful became even more diffident than usu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4202280" cy="3733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3733920" y="266688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b—to be delighted beyond mea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4667040" y="121932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rapt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685800" y="518148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obby felt enraptured in the knowledge that school was finally out for the summ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4:21Z</dcterms:created>
  <dc:creator>Diana Miller</dc:creator>
  <dc:description/>
  <dc:language>en-US</dc:language>
  <cp:lastModifiedBy>Diana Miller</cp:lastModifiedBy>
  <dcterms:modified xsi:type="dcterms:W3CDTF">2013-09-01T23:36:21Z</dcterms:modified>
  <cp:revision>2</cp:revision>
  <dc:subject/>
  <dc:title>Slide 1</dc:title>
</cp:coreProperties>
</file>