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71D-2C6F-4D35-B89D-C6FE104F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DFD-8BDD-4690-9E44-1ACCFB5E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7D7-6F34-4C11-94F3-AF8BBB02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865-BDC4-4A77-B690-58769956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9C1-1F01-4418-8BA6-39C80F2D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C48-4E41-4DB5-ADDE-AA87407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377-0072-4ADA-96D9-2BC5DFBD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86A-A725-4DCE-8840-0827E981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1A7-8279-47A0-A2CD-D945556B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705-B900-4B98-8636-A6BB442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9A7-5794-436C-B692-9262D96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C47-BD3D-4BE1-91C1-B3FCED0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3F2-22C0-46E7-996F-BE7755D0D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814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19720" y="22860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find not guilty of a fault o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133240" y="7621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cqu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33920" cy="3830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2860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gallery erupted in applause when the jury acquitted the prot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572000" y="17524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un—a strong defense; a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22920" y="68580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stood as a bastion watching over the kingdom and protecting it from the ene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2432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4800600" y="1295280"/>
            <a:ext cx="15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2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0" y="251460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rb—to work with another toward a go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56720" y="990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4920" y="5257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mbers of the panel collaborated and come to a decision that benefited the members of each group represen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552760" cy="5410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3392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j.—lacking in self-confidence; s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196960" y="6858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i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590920" y="37339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ever Snow White was near, Bashful became even more diffident than us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228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733920" y="2666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be delighted beyond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67040" y="12193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rap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85800" y="5181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bby felt enraptured in the knowledge that school was finally out for the summ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4:21Z</dcterms:created>
  <dc:creator>Diana Miller</dc:creator>
  <dc:description/>
  <dc:language>en-US</dc:language>
  <cp:lastModifiedBy>Diana Miller</cp:lastModifiedBy>
  <dcterms:modified xsi:type="dcterms:W3CDTF">2013-09-01T23:36:21Z</dcterms:modified>
  <cp:revision>2</cp:revision>
  <dc:subject/>
  <dc:title>Slide 1</dc:title>
</cp:coreProperties>
</file>