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0D4-DC3D-41E6-85FE-1EBF7983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A99-DB0C-4968-950E-973777F0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568-5D92-4CAF-9CD0-E921EC74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38C-F687-4D18-B35F-9A96FFEA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92A-B170-4320-95AA-FD396CD1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642-3632-491F-A896-9A9E2315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3D92-2B68-488C-AF14-C1301C9B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F8B-89E1-4B2C-A76E-F07F6738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397-F082-4564-B02F-19A51286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44D-6DAB-4A6D-9A02-75F48971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532-FB3E-4C78-9148-944D3F97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888-2CDA-4FD9-9451-D4B0635D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7ED7-3FFE-4945-9EBE-778F31508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81480" y="1066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419720" y="22860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find not guilty of a fault or cr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133240" y="762120"/>
            <a:ext cx="21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cqu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733920" cy="3830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8"/>
          <p:cNvSpPr/>
          <p:nvPr/>
        </p:nvSpPr>
        <p:spPr>
          <a:xfrm>
            <a:off x="228600" y="4572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gallery erupted in applause when the jury acquitted the protes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4572000" y="1752480"/>
            <a:ext cx="41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un—a strong defense; a f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722920" y="685800"/>
            <a:ext cx="210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a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28600" y="5105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stood as a bastion watching over the kingdom and protecting it from the ene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2432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4800600" y="1295280"/>
            <a:ext cx="152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20" y="9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572000" y="2514600"/>
            <a:ext cx="4419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verb—to work with another toward a go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256720" y="99072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llabo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04920" y="52578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members of the panel collaborated and come to a decision that benefited the members of each group represen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2552760" cy="5410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33920" y="18288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j.—lacking in self-confidence; s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5196960" y="685800"/>
            <a:ext cx="243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ffid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590920" y="373392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ever Snow White was near, Bashful became even more diffident than us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202280" cy="3733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3733920" y="26668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be delighted beyond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667040" y="121932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rapt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85800" y="51814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obby felt enraptured in the knowledge that school was finally out for the summ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4:21Z</dcterms:created>
  <dc:creator>Diana Miller</dc:creator>
  <dc:description/>
  <dc:language>en-US</dc:language>
  <cp:lastModifiedBy>Diana Miller</cp:lastModifiedBy>
  <dcterms:modified xsi:type="dcterms:W3CDTF">2013-09-01T23:36:21Z</dcterms:modified>
  <cp:revision>2</cp:revision>
  <dc:subject/>
  <dc:title>Slide 1</dc:title>
</cp:coreProperties>
</file>