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4B3-C5F3-4DAD-A282-221DFD55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F51-1D07-4391-8069-0F90E5C7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D45-7EE4-485A-B8EC-16277749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796-77EA-4E24-AB03-50735A1A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CA2-836C-4EAC-AA31-A81A9071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61E-2A44-408E-B3D3-397FE7A8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DAD-0649-4851-99BC-46F3F9B7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FEB7-1EA7-4E51-88BB-0AB190BA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790-60DD-4846-BDC6-CA05A7F1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C73-AC09-4755-9179-2A04B653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55EE-77D6-4BC0-B50F-725EF111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7C0-402D-4D2A-8D47-1260B57E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44C3-38FF-482E-8A43-94682D9F5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181480" y="1066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419720" y="22860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b—to find not guilty of a fault or cr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133240" y="762120"/>
            <a:ext cx="215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cqu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733920" cy="3830760"/>
          </a:xfrm>
          <a:prstGeom prst="rect">
            <a:avLst/>
          </a:prstGeom>
          <a:ln w="0">
            <a:noFill/>
          </a:ln>
        </p:spPr>
      </p:pic>
      <p:sp>
        <p:nvSpPr>
          <p:cNvPr id="45" name="TextBox 8"/>
          <p:cNvSpPr/>
          <p:nvPr/>
        </p:nvSpPr>
        <p:spPr>
          <a:xfrm>
            <a:off x="228600" y="4572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gallery erupted in applause when the jury acquitted the protes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4572000" y="1752480"/>
            <a:ext cx="411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oun—a strong defense; a f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722920" y="685800"/>
            <a:ext cx="210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a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28600" y="51055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 stood as a bastion watching over the kingdom and protecting it from the ene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32432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4800600" y="1295280"/>
            <a:ext cx="152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520" y="9036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572000" y="2514600"/>
            <a:ext cx="4419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verb—to work with another toward a go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256720" y="99072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llabor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304920" y="52578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members of the panel collaborated and come to a decision that benefited the members of each group represen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2552760" cy="5410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733920" y="18288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j.—lacking in self-confidence; s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5196960" y="685800"/>
            <a:ext cx="243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ffid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590920" y="373392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ever Snow White was near, Bashful became even more diffident than usu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4202280" cy="3733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3733920" y="266688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b—to be delighted beyond mea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667040" y="121932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rapt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685800" y="518148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obby felt enraptured in the knowledge that school was finally out for the summ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4:21Z</dcterms:created>
  <dc:creator>Diana Miller</dc:creator>
  <dc:description/>
  <dc:language>en-US</dc:language>
  <cp:lastModifiedBy>Diana Miller</cp:lastModifiedBy>
  <dcterms:modified xsi:type="dcterms:W3CDTF">2013-09-01T23:36:21Z</dcterms:modified>
  <cp:revision>2</cp:revision>
  <dc:subject/>
  <dc:title>Slide 1</dc:title>
</cp:coreProperties>
</file>